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8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14.png" ContentType="image/png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4BD-00A7-40FA-96D7-0B326981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B90-3B9E-4650-B21C-BBCEF624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4F2-E5B9-4A46-A82A-A841EB22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3262-21A3-4F9A-8C24-D788E271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4F5-7887-4776-B59A-459A2231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43A9-73D9-46F0-9C60-6DCB838B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5F2-9FFA-4BFE-A302-86BD0B3D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59D7-0955-4EC9-AECA-BFC8F30D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D1E-C39F-42CA-9B75-1B303622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E877-2CE9-41D2-83D7-832DC77C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D70-FB4D-4CFE-9FD9-A4A76BB5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1E9-8868-438E-B95C-5ADA9F05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5A4F-0D47-47CF-A759-E9144775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AAC4-1E6A-4C2C-89D8-4153A599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8FD5-2274-4E6C-B2BC-33264B5F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5733-FE3E-4294-8D74-5843CD09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A638-E4E7-4E5F-B5E0-3156089D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A56B-7953-4EF7-9B77-6A23B8E64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DDB9-C056-4BAF-A9B4-CA0BBC3A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8586-F7C9-4B5B-9BDA-19554567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8416-BAF0-4A67-9294-9586C616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34AE-30F6-44BB-AEC5-57371618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95A-2EBE-4E12-973C-E4142E25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15D-1D71-43C5-A36B-9730021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903-8333-4BFF-B122-3536B0D3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B25-ABAF-43B0-9123-01D92FB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D1B-3779-47F5-A830-A1529F33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265-8939-4D6B-8DE7-541F8F99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739-054E-4D9B-9FCF-6445E663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CA5-EFAA-4D3A-8E85-209A5D4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4A2-FCF1-4684-8DB8-D3F4E220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EDD-10EF-4DA9-965B-7A774EC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3C1-E6F8-49A9-80D8-E1E2DF5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D34-83AB-414D-81A3-01B8D96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E36-186A-43C6-B549-E46BE4EC9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2.png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6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dd Pair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奇怪的一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helby Bu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-53352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3809880" y="15238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4"/>
          <p:cNvSpPr/>
          <p:nvPr/>
        </p:nvSpPr>
        <p:spPr>
          <a:xfrm flipV="1">
            <a:off x="3886200" y="2590920"/>
            <a:ext cx="225360" cy="108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1523880" y="3176640"/>
            <a:ext cx="1482840" cy="18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Tsu-kun\AppData\Local\Microsoft\Windows\Temporary Internet Files\Content.IE5\1B3R9PBO\MCj04322350000[1].wmf"/>
          <p:cNvPicPr/>
          <p:nvPr/>
        </p:nvPicPr>
        <p:blipFill>
          <a:blip r:embed="rId3"/>
          <a:srcRect l="0" t="0" r="0" b="19325"/>
          <a:stretch/>
        </p:blipFill>
        <p:spPr>
          <a:xfrm>
            <a:off x="1655640" y="2438280"/>
            <a:ext cx="1219320" cy="1046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5867280" y="6858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unhappy to se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看到猫不高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4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5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2666880" y="1219320"/>
            <a:ext cx="1832040" cy="2422440"/>
            <a:chOff x="2666880" y="1219320"/>
            <a:chExt cx="1832040" cy="2422440"/>
          </a:xfrm>
        </p:grpSpPr>
        <p:pic>
          <p:nvPicPr>
            <p:cNvPr id="107" name="Picture 2" descr="C:\Documents and Settings\sburton\Local Settings\Temporary Internet Files\Content.IE5\45HGRHJD\MCj04260060000[1].wmf"/>
            <p:cNvPicPr/>
            <p:nvPr/>
          </p:nvPicPr>
          <p:blipFill>
            <a:blip r:embed="rId1"/>
            <a:stretch/>
          </p:blipFill>
          <p:spPr>
            <a:xfrm>
              <a:off x="2666880" y="1219320"/>
              <a:ext cx="1832040" cy="24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Freeform 4"/>
            <p:cNvSpPr/>
            <p:nvPr/>
          </p:nvSpPr>
          <p:spPr>
            <a:xfrm flipV="1">
              <a:off x="2742840" y="2285280"/>
              <a:ext cx="225360" cy="10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990720" y="2590920"/>
            <a:ext cx="1882800" cy="3038400"/>
            <a:chOff x="990720" y="2590920"/>
            <a:chExt cx="1882800" cy="3038400"/>
          </a:xfrm>
        </p:grpSpPr>
        <p:grpSp>
          <p:nvGrpSpPr>
            <p:cNvPr id="110" name="Group 10"/>
            <p:cNvGrpSpPr/>
            <p:nvPr/>
          </p:nvGrpSpPr>
          <p:grpSpPr>
            <a:xfrm>
              <a:off x="990720" y="2590920"/>
              <a:ext cx="1882800" cy="3038400"/>
              <a:chOff x="990720" y="2590920"/>
              <a:chExt cx="1882800" cy="3038400"/>
            </a:xfrm>
          </p:grpSpPr>
          <p:pic>
            <p:nvPicPr>
              <p:cNvPr id="111" name="Picture 7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3809880"/>
                <a:ext cx="164808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3"/>
              <a:srcRect l="0" t="0" r="0" b="21734"/>
              <a:stretch/>
            </p:blipFill>
            <p:spPr>
              <a:xfrm>
                <a:off x="990720" y="259092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Freeform 11"/>
            <p:cNvSpPr/>
            <p:nvPr/>
          </p:nvSpPr>
          <p:spPr>
            <a:xfrm flipV="1">
              <a:off x="1828800" y="472392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2"/>
          <p:cNvSpPr/>
          <p:nvPr/>
        </p:nvSpPr>
        <p:spPr>
          <a:xfrm>
            <a:off x="609480" y="6094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told her son to stop playing in the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叫她的儿子别再在森林里玩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forest-chinese.jpg"/>
          <p:cNvPicPr/>
          <p:nvPr/>
        </p:nvPicPr>
        <p:blipFill>
          <a:blip r:embed="rId4"/>
          <a:stretch/>
        </p:blipFill>
        <p:spPr>
          <a:xfrm>
            <a:off x="4648320" y="1981080"/>
            <a:ext cx="4343400" cy="4116600"/>
          </a:xfrm>
          <a:prstGeom prst="rect">
            <a:avLst/>
          </a:prstGeom>
          <a:ln w="0">
            <a:noFill/>
          </a:ln>
        </p:spPr>
      </p:pic>
      <p:sp>
        <p:nvSpPr>
          <p:cNvPr id="116" name="&quot;No&quot; Symbol 14"/>
          <p:cNvSpPr/>
          <p:nvPr/>
        </p:nvSpPr>
        <p:spPr>
          <a:xfrm>
            <a:off x="4800600" y="2057400"/>
            <a:ext cx="3809880" cy="396252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5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75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1219320" y="380988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3"/>
          <p:cNvSpPr/>
          <p:nvPr/>
        </p:nvSpPr>
        <p:spPr>
          <a:xfrm flipV="1">
            <a:off x="1828800" y="4724280"/>
            <a:ext cx="225360" cy="10800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7391520" y="914400"/>
            <a:ext cx="1482480" cy="1876320"/>
            <a:chOff x="7391520" y="914400"/>
            <a:chExt cx="1482480" cy="1876320"/>
          </a:xfrm>
        </p:grpSpPr>
        <p:pic>
          <p:nvPicPr>
            <p:cNvPr id="122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7391520" y="914400"/>
              <a:ext cx="14824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7"/>
            <p:cNvSpPr/>
            <p:nvPr/>
          </p:nvSpPr>
          <p:spPr>
            <a:xfrm flipV="1">
              <a:off x="7980480" y="19281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Straight Arrow Connector 10"/>
          <p:cNvCxnSpPr/>
          <p:nvPr/>
        </p:nvCxnSpPr>
        <p:spPr>
          <a:xfrm flipH="1">
            <a:off x="2895120" y="1599120"/>
            <a:ext cx="37346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Straight Arrow Connector 12"/>
          <p:cNvCxnSpPr/>
          <p:nvPr/>
        </p:nvCxnSpPr>
        <p:spPr>
          <a:xfrm flipH="1">
            <a:off x="3276000" y="2133720"/>
            <a:ext cx="3810600" cy="22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TextBox 13"/>
          <p:cNvSpPr/>
          <p:nvPr/>
        </p:nvSpPr>
        <p:spPr>
          <a:xfrm>
            <a:off x="685800" y="6094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tched the dog walk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看着狗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orded Sound" descr=""/>
          <p:cNvPicPr/>
          <p:nvPr/>
        </p:nvPicPr>
        <p:blipFill>
          <a:blip r:embed="rId3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50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4114800" y="2666880"/>
            <a:ext cx="1482840" cy="1876680"/>
            <a:chOff x="4114800" y="2666880"/>
            <a:chExt cx="1482840" cy="1876680"/>
          </a:xfrm>
        </p:grpSpPr>
        <p:pic>
          <p:nvPicPr>
            <p:cNvPr id="130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4114800" y="2666880"/>
              <a:ext cx="148284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Freeform 3"/>
            <p:cNvSpPr/>
            <p:nvPr/>
          </p:nvSpPr>
          <p:spPr>
            <a:xfrm flipV="1">
              <a:off x="4703760" y="368064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"/>
          <p:cNvSpPr/>
          <p:nvPr/>
        </p:nvSpPr>
        <p:spPr>
          <a:xfrm>
            <a:off x="762120" y="838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很伤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35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38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39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C:\Documents and Settings\sburton\Local Settings\Temporary Internet Files\Content.IE5\30GCO75N\MCj04381690000[1].wmf"/>
              <p:cNvPicPr/>
              <p:nvPr/>
            </p:nvPicPr>
            <p:blipFill>
              <a:blip r:embed="rId3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4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5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Cloud Callout 9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0"/>
          <p:cNvSpPr/>
          <p:nvPr/>
        </p:nvSpPr>
        <p:spPr>
          <a:xfrm>
            <a:off x="3657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lost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失去了一个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47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" descr="C:\Documents and Settings\sburton\Local Settings\Temporary Internet Files\Content.IE5\45HGRHJD\MCj04260060000[1].wmf"/>
          <p:cNvPicPr/>
          <p:nvPr/>
        </p:nvPicPr>
        <p:blipFill>
          <a:blip r:embed="rId2"/>
          <a:stretch/>
        </p:blipFill>
        <p:spPr>
          <a:xfrm>
            <a:off x="6019920" y="990720"/>
            <a:ext cx="1831680" cy="24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Tsu-kun\AppData\Local\Microsoft\Windows\Temporary Internet Files\Content.IE5\1B3R9PBO\MCj04348590000[1].png"/>
          <p:cNvPicPr/>
          <p:nvPr/>
        </p:nvPicPr>
        <p:blipFill>
          <a:blip r:embed="rId3"/>
          <a:stretch/>
        </p:blipFill>
        <p:spPr>
          <a:xfrm>
            <a:off x="3581280" y="1143000"/>
            <a:ext cx="17146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7"/>
          <p:cNvGrpSpPr/>
          <p:nvPr/>
        </p:nvGrpSpPr>
        <p:grpSpPr>
          <a:xfrm>
            <a:off x="2514600" y="4267080"/>
            <a:ext cx="3124080" cy="1852560"/>
            <a:chOff x="2514600" y="4267080"/>
            <a:chExt cx="3124080" cy="1852560"/>
          </a:xfrm>
        </p:grpSpPr>
        <p:pic>
          <p:nvPicPr>
            <p:cNvPr id="152" name="Picture 3" descr="C:\Documents and Settings\sburton\Local Settings\Temporary Internet Files\Content.IE5\Y39XOFVM\MCj04381670000[1].wmf"/>
            <p:cNvPicPr/>
            <p:nvPr/>
          </p:nvPicPr>
          <p:blipFill>
            <a:blip r:embed="rId4"/>
            <a:stretch/>
          </p:blipFill>
          <p:spPr>
            <a:xfrm>
              <a:off x="2514600" y="5041440"/>
              <a:ext cx="120528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9" descr="C:\Documents and Settings\sburton\Local Settings\Temporary Internet Files\Content.IE5\30GCO75N\MCj04381690000[1].wmf"/>
            <p:cNvPicPr/>
            <p:nvPr/>
          </p:nvPicPr>
          <p:blipFill>
            <a:blip r:embed="rId5"/>
            <a:stretch/>
          </p:blipFill>
          <p:spPr>
            <a:xfrm>
              <a:off x="4294080" y="4967640"/>
              <a:ext cx="133956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" descr="C:\Users\Tsu-kun\AppData\Local\Microsoft\Windows\Temporary Internet Files\Content.IE5\1B3R9PBO\MCj04322350000[1].wmf"/>
            <p:cNvPicPr/>
            <p:nvPr/>
          </p:nvPicPr>
          <p:blipFill>
            <a:blip r:embed="rId6"/>
            <a:srcRect l="0" t="0" r="0" b="19325"/>
            <a:stretch/>
          </p:blipFill>
          <p:spPr>
            <a:xfrm>
              <a:off x="2621520" y="4617360"/>
              <a:ext cx="99108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" descr="C:\Users\Tsu-kun\AppData\Local\Microsoft\Windows\Temporary Internet Files\Content.IE5\K2ZCTLF3\MCj04322650000[1].wmf"/>
            <p:cNvPicPr/>
            <p:nvPr/>
          </p:nvPicPr>
          <p:blipFill>
            <a:blip r:embed="rId7"/>
            <a:srcRect l="0" t="0" r="0" b="21734"/>
            <a:stretch/>
          </p:blipFill>
          <p:spPr>
            <a:xfrm>
              <a:off x="4108320" y="4267080"/>
              <a:ext cx="1530360" cy="7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TextBox 12"/>
          <p:cNvSpPr/>
          <p:nvPr/>
        </p:nvSpPr>
        <p:spPr>
          <a:xfrm>
            <a:off x="266688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asked the mother dog to let her play with her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请求母狗让她跟她的儿子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orded Sound" descr=""/>
          <p:cNvPicPr/>
          <p:nvPr/>
        </p:nvPicPr>
        <p:blipFill>
          <a:blip r:embed="rId8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Recorded Sound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5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2133720" y="609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ther dog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母狗不喜欢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162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orded Sound" descr=""/>
          <p:cNvPicPr/>
          <p:nvPr/>
        </p:nvPicPr>
        <p:blipFill>
          <a:blip r:embed="rId3"/>
          <a:stretch/>
        </p:blipFill>
        <p:spPr>
          <a:xfrm>
            <a:off x="-4572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11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400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"/>
          <p:cNvGrpSpPr/>
          <p:nvPr/>
        </p:nvGrpSpPr>
        <p:grpSpPr>
          <a:xfrm>
            <a:off x="2514600" y="3352680"/>
            <a:ext cx="3581280" cy="2766960"/>
            <a:chOff x="2514600" y="3352680"/>
            <a:chExt cx="3581280" cy="2766960"/>
          </a:xfrm>
        </p:grpSpPr>
        <p:pic>
          <p:nvPicPr>
            <p:cNvPr id="166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2514600" y="4509360"/>
              <a:ext cx="1381680" cy="161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4554360" y="4398840"/>
              <a:ext cx="1535400" cy="156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2637360" y="3875760"/>
              <a:ext cx="113616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4341600" y="3352680"/>
              <a:ext cx="1754280" cy="117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2" descr="C:\Documents and Settings\sburton\Local Settings\Temporary Internet Files\Content.IE5\45HGRHJD\MCj04260060000[1].wmf"/>
          <p:cNvPicPr/>
          <p:nvPr/>
        </p:nvPicPr>
        <p:blipFill>
          <a:blip r:embed="rId5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71" name="&quot;No&quot; Symbol 7"/>
          <p:cNvSpPr/>
          <p:nvPr/>
        </p:nvSpPr>
        <p:spPr>
          <a:xfrm>
            <a:off x="2438280" y="4800600"/>
            <a:ext cx="1295640" cy="11430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371600" y="6094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idn’t want her son playing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不想她的儿子跟猫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Recorded Sound" descr=""/>
          <p:cNvPicPr/>
          <p:nvPr/>
        </p:nvPicPr>
        <p:blipFill>
          <a:blip r:embed="rId6"/>
          <a:stretch/>
        </p:blipFill>
        <p:spPr>
          <a:xfrm>
            <a:off x="-6858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Recorded Sound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45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76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77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5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3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4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Cloud Callout 3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C:\Documents and Settings\sburton\Local Settings\Temporary Internet Files\Content.IE5\30GCO75N\MCj04381690000[1].wmf"/>
          <p:cNvPicPr/>
          <p:nvPr/>
        </p:nvPicPr>
        <p:blipFill>
          <a:blip r:embed="rId5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9"/>
          <p:cNvSpPr/>
          <p:nvPr/>
        </p:nvSpPr>
        <p:spPr>
          <a:xfrm>
            <a:off x="2666880" y="4572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nted to play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狗想跟猫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orded Sound" descr=""/>
          <p:cNvPicPr/>
          <p:nvPr/>
        </p:nvPicPr>
        <p:blipFill>
          <a:blip r:embed="rId6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Recorded Sound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95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Tsu-kun\AppData\Local\Microsoft\Windows\Temporary Internet Files\Content.IE5\A3UJDGGF\MCj04135000000[1].wmf"/>
          <p:cNvPicPr/>
          <p:nvPr/>
        </p:nvPicPr>
        <p:blipFill>
          <a:blip r:embed="rId2"/>
          <a:stretch/>
        </p:blipFill>
        <p:spPr>
          <a:xfrm>
            <a:off x="2133720" y="1981080"/>
            <a:ext cx="1226880" cy="1724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Documents and Settings\sburton\Local Settings\Temporary Internet Files\Content.IE5\45HGRHJD\MCj0426006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3200400" y="464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mom he would run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告诉他妈妈他会离家出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orded Sound" descr=""/>
          <p:cNvPicPr/>
          <p:nvPr/>
        </p:nvPicPr>
        <p:blipFill>
          <a:blip r:embed="rId4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4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6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sburton\Local Settings\Temporary Internet Files\Content.IE5\Y39XOFVM\MCj04381670000[1].wmf"/>
          <p:cNvPicPr/>
          <p:nvPr/>
        </p:nvPicPr>
        <p:blipFill>
          <a:blip r:embed="rId1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9907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只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3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7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sburton\Local Settings\Temporary Internet Files\Content.IE5\GRBJJYRJ\MCj04381270000[1].wmf"/>
          <p:cNvPicPr/>
          <p:nvPr/>
        </p:nvPicPr>
        <p:blipFill>
          <a:blip r:embed="rId3"/>
          <a:stretch/>
        </p:blipFill>
        <p:spPr>
          <a:xfrm>
            <a:off x="3809880" y="4800600"/>
            <a:ext cx="1816200" cy="7812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2971800" y="259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ecided he could stay friends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决定他能继续跟猫做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orded Sound" descr=""/>
          <p:cNvPicPr/>
          <p:nvPr/>
        </p:nvPicPr>
        <p:blipFill>
          <a:blip r:embed="rId4"/>
          <a:stretch/>
        </p:blipFill>
        <p:spPr>
          <a:xfrm>
            <a:off x="-60948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4550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1" descr=""/>
          <p:cNvPicPr/>
          <p:nvPr/>
        </p:nvPicPr>
        <p:blipFill>
          <a:blip r:embed="rId1"/>
          <a:stretch/>
        </p:blipFill>
        <p:spPr>
          <a:xfrm>
            <a:off x="1365120" y="311040"/>
            <a:ext cx="6888240" cy="5315040"/>
          </a:xfrm>
          <a:prstGeom prst="rect">
            <a:avLst/>
          </a:prstGeom>
          <a:ln w="0">
            <a:noFill/>
          </a:ln>
        </p:spPr>
      </p:pic>
      <p:pic>
        <p:nvPicPr>
          <p:cNvPr id="199" name="Recorded Sound" descr=""/>
          <p:cNvPicPr/>
          <p:nvPr/>
        </p:nvPicPr>
        <p:blipFill>
          <a:blip r:embed="rId2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321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burton\Local Settings\Temporary Internet Files\Content.IE5\GRBJJYRJ\MCj04381270000[1].wmf"/>
          <p:cNvPicPr/>
          <p:nvPr/>
        </p:nvPicPr>
        <p:blipFill>
          <a:blip r:embed="rId1"/>
          <a:stretch/>
        </p:blipFill>
        <p:spPr>
          <a:xfrm>
            <a:off x="3664080" y="3038400"/>
            <a:ext cx="1815840" cy="781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60020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ha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有个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-53352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3747960" y="2519280"/>
            <a:ext cx="1648080" cy="181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19320" y="1066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friend was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的朋友是只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9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sburton\Local Settings\Temporary Internet Files\Content.IE5\Y39XOFVM\MCj04363260000[1].png"/>
          <p:cNvPicPr/>
          <p:nvPr/>
        </p:nvPicPr>
        <p:blipFill>
          <a:blip r:embed="rId1"/>
          <a:stretch/>
        </p:blipFill>
        <p:spPr>
          <a:xfrm>
            <a:off x="1523880" y="2438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981080" y="1066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’s mother did not like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的妈妈不喜欢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6324480" y="3581280"/>
            <a:ext cx="1524240" cy="1683000"/>
          </a:xfrm>
          <a:prstGeom prst="rect">
            <a:avLst/>
          </a:prstGeom>
          <a:ln w="0">
            <a:noFill/>
          </a:ln>
        </p:spPr>
      </p:pic>
      <p:sp>
        <p:nvSpPr>
          <p:cNvPr id="68" name="&quot;No&quot; Symbol 6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96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33720" y="609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’s mother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狗的妈妈不喜欢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74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orded Sound" descr=""/>
          <p:cNvPicPr/>
          <p:nvPr/>
        </p:nvPicPr>
        <p:blipFill>
          <a:blip r:embed="rId3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1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apnaavenue.com/wp-content/uploads/cat_hugging_dog.jpg"/>
          <p:cNvPicPr/>
          <p:nvPr/>
        </p:nvPicPr>
        <p:blipFill>
          <a:blip r:embed="rId2"/>
          <a:srcRect l="7113" t="13377" r="12887" b="9032"/>
          <a:stretch/>
        </p:blipFill>
        <p:spPr>
          <a:xfrm>
            <a:off x="228600" y="2666880"/>
            <a:ext cx="342900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1676520" y="6094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ir often played in the fores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这一对经常在森林里一起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orded Sound" descr=""/>
          <p:cNvPicPr/>
          <p:nvPr/>
        </p:nvPicPr>
        <p:blipFill>
          <a:blip r:embed="rId3"/>
          <a:stretch/>
        </p:blipFill>
        <p:spPr>
          <a:xfrm>
            <a:off x="-4572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1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6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6"/>
          <p:cNvGrpSpPr/>
          <p:nvPr/>
        </p:nvGrpSpPr>
        <p:grpSpPr>
          <a:xfrm>
            <a:off x="3830760" y="1143000"/>
            <a:ext cx="3843360" cy="3224160"/>
            <a:chOff x="3830760" y="1143000"/>
            <a:chExt cx="3843360" cy="3224160"/>
          </a:xfrm>
        </p:grpSpPr>
        <p:pic>
          <p:nvPicPr>
            <p:cNvPr id="82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3830760" y="249084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6019920" y="236196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3962520" y="175248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5791320" y="114300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Box 5"/>
          <p:cNvSpPr/>
          <p:nvPr/>
        </p:nvSpPr>
        <p:spPr>
          <a:xfrm>
            <a:off x="533520" y="1066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s a princess and the dog was a pr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是公主而狗是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orded Sound" descr=""/>
          <p:cNvPicPr/>
          <p:nvPr/>
        </p:nvPicPr>
        <p:blipFill>
          <a:blip r:embed="rId5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45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705720" y="1066680"/>
            <a:ext cx="1831680" cy="24228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"/>
          <p:cNvSpPr/>
          <p:nvPr/>
        </p:nvSpPr>
        <p:spPr>
          <a:xfrm>
            <a:off x="6781680" y="2133720"/>
            <a:ext cx="211320" cy="145800"/>
          </a:xfrm>
          <a:prstGeom prst="pi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066680" y="1905120"/>
            <a:ext cx="3843360" cy="3224160"/>
            <a:chOff x="1066680" y="1905120"/>
            <a:chExt cx="3843360" cy="3224160"/>
          </a:xfrm>
        </p:grpSpPr>
        <p:pic>
          <p:nvPicPr>
            <p:cNvPr id="92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1066680" y="325296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sburton\Local Settings\Temporary Internet Files\Content.IE5\30GCO75N\MCj04381690000[1].wmf"/>
            <p:cNvPicPr/>
            <p:nvPr/>
          </p:nvPicPr>
          <p:blipFill>
            <a:blip r:embed="rId3"/>
            <a:stretch/>
          </p:blipFill>
          <p:spPr>
            <a:xfrm>
              <a:off x="3255840" y="312408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C:\Users\Tsu-kun\AppData\Local\Microsoft\Windows\Temporary Internet Files\Content.IE5\1B3R9PBO\MCj04322350000[1].wmf"/>
            <p:cNvPicPr/>
            <p:nvPr/>
          </p:nvPicPr>
          <p:blipFill>
            <a:blip r:embed="rId4"/>
            <a:srcRect l="0" t="0" r="0" b="19325"/>
            <a:stretch/>
          </p:blipFill>
          <p:spPr>
            <a:xfrm>
              <a:off x="1198440" y="251460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" descr="C:\Users\Tsu-kun\AppData\Local\Microsoft\Windows\Temporary Internet Files\Content.IE5\K2ZCTLF3\MCj04322650000[1].wmf"/>
            <p:cNvPicPr/>
            <p:nvPr/>
          </p:nvPicPr>
          <p:blipFill>
            <a:blip r:embed="rId5"/>
            <a:srcRect l="0" t="0" r="0" b="21734"/>
            <a:stretch/>
          </p:blipFill>
          <p:spPr>
            <a:xfrm>
              <a:off x="3027240" y="190512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Box 10"/>
          <p:cNvSpPr/>
          <p:nvPr/>
        </p:nvSpPr>
        <p:spPr>
          <a:xfrm>
            <a:off x="457200" y="7621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, the dog’s mother fou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天，狗的妈妈找到他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6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Recorded Sound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75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1:18Z</dcterms:created>
  <dc:creator>itsuser</dc:creator>
  <dc:description/>
  <dc:language>en-US</dc:language>
  <cp:lastModifiedBy>itsuser</cp:lastModifiedBy>
  <dcterms:modified xsi:type="dcterms:W3CDTF">2009-04-23T16:15:49Z</dcterms:modified>
  <cp:revision>9</cp:revision>
  <dc:subject/>
  <dc:title>Slide 1</dc:title>
</cp:coreProperties>
</file>